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DF0-6F53-4D65-9A8C-BD7FED0A0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B200-90B1-4706-BDC6-969908E1B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1906-A116-4553-9081-F2F59D2AE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51A9-53FA-46C1-9062-5BD2DB1E6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1142-A206-4D61-8546-1CE5856255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1C33-1C8B-451A-861D-0ACE2BC3D9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DAAF-D8E1-4F0F-A74F-9D03AE9B1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03D6-E32B-4D54-90BD-718A6EACFC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12D4-C73E-47F1-99CA-C590AC4A0B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FD66-2B1F-4A42-B3FB-3141AAFACF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BDF6-B822-42BD-B5B6-FD50E4100B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9F6B-EAB9-4FB7-AE56-9EB4A522EF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39B34-2071-43EF-A5D0-934BCB4C95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DDD1-EA28-4516-806A-63662EB23C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21A4-C1AB-4EAD-835C-7F62496F9FD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1A0C-34D4-4AAA-BCAB-B114822FC1D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3BDD-2957-450B-8545-83CBDB18F1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ABA1-DA17-4FE8-AD77-6D60FB8994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D943-0B3F-44E4-AE27-72BE9D9006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0A3C3-FF6D-4712-8C41-C350EFBBE0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15CD-8D21-44C2-B817-B131C4B14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A9581-A967-4358-9934-D4DFBA7520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40C0-6024-40AB-A82B-867378F87A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42ABD-4413-4885-8E65-390104E49B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E107B-E8B5-453F-9934-0FB99C0E35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0C36-D54B-44FD-8088-3AB3CABEB49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66F1-4C24-487C-977E-DC8316A7F8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0123-D383-4520-88B0-65A2F1F20A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478-D841-4F5B-BE88-EF85715511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741-DA27-4032-9D44-F732590E76A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14F-3730-49BA-A9E5-9C0A5B848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6B5-57AF-4B27-8ABF-1D66E54871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065-7449-45BA-901F-C2151832FFD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B04-10D2-47D6-A016-8928B12644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866-ECA7-45DD-8221-7B4C9A550A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9C7-3940-458B-B18C-009D7F9030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420-C2F1-44A5-BE93-CA891C1A5FA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946-346C-419C-837B-B9626A6E29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FCF-819D-4BE9-A5F9-F2572953126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50A-ACE4-4932-B3AC-11B46BD19AF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35F57-204A-43EA-B8B2-0BA56CC18D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9E04F-1690-4C3C-9F50-8A4D76F265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2F9C4-0D82-455F-AE8E-0ED63B8E276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8623A-C4BE-4935-A480-FDF19CB262B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D50F-FB9F-4A80-97C7-64ED242F136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446D5-68F3-4184-9218-957BFC24A3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E6ADF-DD12-43A0-8ED5-B8609D1D1F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5926-3598-42BC-A5FD-AAC56A3ADF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3C017-346B-4311-8B01-59AB18C36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63391-717D-44C7-8B57-D9E8001C43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5AFEB-484F-4500-8EE8-347E98C6A6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4CFB4-383C-4639-8569-5F5D3219F4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BB771-B6B1-456D-94B4-215CFEEAE8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A925F-8162-4282-A460-753E86FC69D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4DA2-AC77-41C5-8C5D-64D9EF49519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08C8E-6EF9-4B4B-A168-5A40F359B9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8C2AC-8D00-47CA-B592-EAC1440678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8C382-DD06-48BD-9E04-AD9D19FF2B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AF9CA-17B8-426B-899E-4B4A74BB3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2BFBB-86F1-4DC2-9821-95A8FE577B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A3990-2CC8-444A-93AA-6224D446D1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D2BE0-1348-44E7-B377-32E5BB323F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FEB69-795D-4956-AA53-92E23F85390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F5304-9FC4-49AC-9A7E-4E2A4D149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DE9A-5F2D-4EA0-8EA4-26B77500F30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Num" idx="2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417E-5712-483B-9616-5C671132C6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Num" idx="3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0989-798F-450A-8DE7-9F5AD3AB420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datum 3"/>
          <p:cNvSpPr/>
          <p:nvPr/>
        </p:nvSpPr>
        <p:spPr>
          <a:xfrm>
            <a:off x="1285920" y="55720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32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Num" idx="4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969-5AE4-4313-A2C4-1A22B0C0C3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Marek Š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 rot="16200000">
            <a:off x="-272160" y="5029560"/>
            <a:ext cx="2879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365f91"/>
                </a:solidFill>
                <a:latin typeface="Arial Narrow"/>
              </a:rPr>
              <a:t>INVESTICE DO ROZVOJE VZDĚLÁVÁN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Zástupný symbol pro datum 3"/>
          <p:cNvSpPr/>
          <p:nvPr/>
        </p:nvSpPr>
        <p:spPr>
          <a:xfrm>
            <a:off x="7358040" y="6492960"/>
            <a:ext cx="178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datum 3"/>
          <p:cNvSpPr/>
          <p:nvPr/>
        </p:nvSpPr>
        <p:spPr>
          <a:xfrm>
            <a:off x="671508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Num" idx="5"/>
          </p:nvPr>
        </p:nvSpPr>
        <p:spPr>
          <a:xfrm>
            <a:off x="1071360" y="650088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FC3-DEAE-4367-AD3B-F8BBBEA17518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mailto:cer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hyperlink" Target="mailto:cera@msmt.cz" TargetMode="External"/><Relationship Id="rId4" Type="http://schemas.openxmlformats.org/officeDocument/2006/relationships/hyperlink" Target="mailto:cera@msmt.cz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3920" y="471456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prezentace vychází z Příručky pro žadatele OPVK ze dne 3. 9. 2008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přípravě žádostí je nutné vycházet z aktuálních informací uvedených v Příručce pro žadatele platné vždy pro danou výzvu a z podmínek stanovených ve výzvě k předkládání žádost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85920" y="1714680"/>
            <a:ext cx="4914720" cy="29286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839-0172-468D-99FB-09852C5BDD3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Šrafovaná šipka doprava 5"/>
          <p:cNvSpPr/>
          <p:nvPr/>
        </p:nvSpPr>
        <p:spPr>
          <a:xfrm rot="5400000">
            <a:off x="3071520" y="4643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další projekty, které realizuje žadatel v oblasti rozvoje lidských zdrojů a které jsou financované z veřejných zdroj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rojekty, které jsou relevantní vzhledem k tomuto projektu a js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lizované nebo připravované v době podá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Zástupný symbol pro obsah 4" descr="04_zadost50_2_crop.jpg"/>
          <p:cNvPicPr/>
          <p:nvPr/>
        </p:nvPicPr>
        <p:blipFill>
          <a:blip r:embed="rId1"/>
          <a:srcRect l="3698" t="30463" r="0" b="0"/>
          <a:stretch/>
        </p:blipFill>
        <p:spPr>
          <a:xfrm>
            <a:off x="1285920" y="2071800"/>
            <a:ext cx="4792680" cy="3357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alší projek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56A-3639-4D54-80F8-F5C405CEF43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teprve plánovaného nebo připravovaného projektu uvádějte data plánovaná a očekáva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85920" y="1142640"/>
            <a:ext cx="78580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54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6C2A-7C6C-4C0E-8515-F5DA5558E00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mocí tlačítka „Nový záznam“ je možné zadat potřebný počet partnerů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Šrafovaná šipka doprava 6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rázek 8" descr="1.JPG"/>
          <p:cNvPicPr/>
          <p:nvPr/>
        </p:nvPicPr>
        <p:blipFill>
          <a:blip r:embed="rId1"/>
          <a:stretch/>
        </p:blipFill>
        <p:spPr>
          <a:xfrm>
            <a:off x="1500120" y="1428840"/>
            <a:ext cx="4662720" cy="4676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1357200" y="1500120"/>
            <a:ext cx="4238640" cy="47386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B27-188A-4512-837E-74AF6026CFD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Šrafovaná šipka doprava 5"/>
          <p:cNvSpPr/>
          <p:nvPr/>
        </p:nvSpPr>
        <p:spPr>
          <a:xfrm rot="5400000">
            <a:off x="3643560" y="150012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ový popisek 6"/>
          <p:cNvSpPr/>
          <p:nvPr/>
        </p:nvSpPr>
        <p:spPr>
          <a:xfrm>
            <a:off x="5429160" y="1357200"/>
            <a:ext cx="3500640" cy="571680"/>
          </a:xfrm>
          <a:prstGeom prst="wedgeRectCallout">
            <a:avLst>
              <a:gd name="adj1" fmla="val -156407"/>
              <a:gd name="adj2" fmla="val 2605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Údaje o DPH zohledněte i v rozpočt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ový popisek 7"/>
          <p:cNvSpPr/>
          <p:nvPr/>
        </p:nvSpPr>
        <p:spPr>
          <a:xfrm>
            <a:off x="5429160" y="2000160"/>
            <a:ext cx="3500640" cy="571680"/>
          </a:xfrm>
          <a:prstGeom prst="wedgeRectCallout">
            <a:avLst>
              <a:gd name="adj1" fmla="val -60777"/>
              <a:gd name="adj2" fmla="val 5615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mezte částku, která z celkového rozpočtu projektu připadá na partn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bdélníkový popisek 8"/>
          <p:cNvSpPr/>
          <p:nvPr/>
        </p:nvSpPr>
        <p:spPr>
          <a:xfrm>
            <a:off x="5429160" y="2643120"/>
            <a:ext cx="3500640" cy="121464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zapojujete partnera do projektu, proč určité aktivity nerealizuje přímo žadatel? Proč je vhodný právě tento partner? Proč nelze činnost partnera realizovat formou dodávk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ový popisek 9"/>
          <p:cNvSpPr/>
          <p:nvPr/>
        </p:nvSpPr>
        <p:spPr>
          <a:xfrm>
            <a:off x="5429160" y="3929040"/>
            <a:ext cx="3500640" cy="64296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způsob zapojení partnerů v příslušn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bdélníkový popisek 10"/>
          <p:cNvSpPr/>
          <p:nvPr/>
        </p:nvSpPr>
        <p:spPr>
          <a:xfrm>
            <a:off x="5429160" y="4643280"/>
            <a:ext cx="3500640" cy="1500480"/>
          </a:xfrm>
          <a:prstGeom prst="wedgeRectCallout">
            <a:avLst>
              <a:gd name="adj1" fmla="val -71027"/>
              <a:gd name="adj2" fmla="val 3159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partner realizoval či realizuje. V případě velkého počtu projektů uveďte jen projekty obdobného charakteru. Popis by měl obsahovat cíle projektu, aktivity, program, 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Zástupný symbol pro obsah 6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3889440" cy="41432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9CF4-F748-4D6C-A23A-D5F8779E326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bdélníkový popisek 10"/>
          <p:cNvSpPr/>
          <p:nvPr/>
        </p:nvSpPr>
        <p:spPr>
          <a:xfrm>
            <a:off x="5429160" y="4143240"/>
            <a:ext cx="3500640" cy="1500480"/>
          </a:xfrm>
          <a:prstGeom prst="wedgeRectCallout">
            <a:avLst>
              <a:gd name="adj1" fmla="val -67402"/>
              <a:gd name="adj2" fmla="val 2227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1285920" y="1500120"/>
            <a:ext cx="3897360" cy="46436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7AEC-85E2-405F-91F6-4FD93A5AF13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dresy partnerů jsou automaticky vloženy při validaci ARES na záložce „Partner projektu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maticky vložené údaje needitujte v  aplikaci BENEF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1285920" y="1571760"/>
            <a:ext cx="4817880" cy="435744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artner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partne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8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8FA9-491A-4CAF-9D99-9E5F915F619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bdélník se zakulaceným příčným rohem 5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u každého partner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643040" y="1076400"/>
            <a:ext cx="4143240" cy="5024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8FFD-D429-4641-A398-5135BC1852A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bdélníkový popisek 5"/>
          <p:cNvSpPr/>
          <p:nvPr/>
        </p:nvSpPr>
        <p:spPr>
          <a:xfrm>
            <a:off x="6286680" y="1714680"/>
            <a:ext cx="2714400" cy="1571400"/>
          </a:xfrm>
          <a:prstGeom prst="wedgeRectCallout">
            <a:avLst>
              <a:gd name="adj1" fmla="val -156583"/>
              <a:gd name="adj2" fmla="val 15411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zev by měl popisovat projekt jednoznačně, stručně a výstižně. Pod tímto názvem bude projekt vystupovat od schvalování až po jeho realiza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bdélníkový popisek 6"/>
          <p:cNvSpPr/>
          <p:nvPr/>
        </p:nvSpPr>
        <p:spPr>
          <a:xfrm>
            <a:off x="6286680" y="3571920"/>
            <a:ext cx="2714400" cy="2071800"/>
          </a:xfrm>
          <a:prstGeom prst="wedgeRectCallout">
            <a:avLst>
              <a:gd name="adj1" fmla="val -127578"/>
              <a:gd name="adj2" fmla="val 6796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plňte základní popis projektu a jeho zaměření na cílovou skupinu. Vyjmenujte hlavní aktivity, cíle a výstu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ůkladně promyslete napsaný text, toto pole se následně používá při práci kontrolních orgán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Šrafovaná šipka doprava 9"/>
          <p:cNvSpPr/>
          <p:nvPr/>
        </p:nvSpPr>
        <p:spPr>
          <a:xfrm rot="5400000">
            <a:off x="3643200" y="57862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Příprava projektové žádosti </a:t>
            </a:r>
            <a:br>
              <a:rPr sz="5000"/>
            </a:br>
            <a:r>
              <a:rPr b="1" lang="cs-CZ" sz="5000" spc="-1" strike="noStrike">
                <a:solidFill>
                  <a:srgbClr val="f3912c"/>
                </a:solidFill>
                <a:latin typeface="Calibri"/>
              </a:rPr>
              <a:t>v aplikaci BENEFIT7</a:t>
            </a:r>
            <a:endParaRPr b="1" lang="en-US" sz="5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Zástupný symbol pro obsah 4" descr="04_zadost5_crop.jpg"/>
          <p:cNvPicPr/>
          <p:nvPr/>
        </p:nvPicPr>
        <p:blipFill>
          <a:blip r:embed="rId1"/>
          <a:srcRect l="0" t="18182" r="0" b="0"/>
          <a:stretch/>
        </p:blipFill>
        <p:spPr>
          <a:xfrm>
            <a:off x="1285920" y="1571760"/>
            <a:ext cx="4414680" cy="38574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9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864A-A397-4040-BF71-DE4049FBE61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Šrafovaná šipka doprava 5"/>
          <p:cNvSpPr/>
          <p:nvPr/>
        </p:nvSpPr>
        <p:spPr>
          <a:xfrm rot="5400000">
            <a:off x="3643200" y="1285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ový popisek 6"/>
          <p:cNvSpPr/>
          <p:nvPr/>
        </p:nvSpPr>
        <p:spPr>
          <a:xfrm>
            <a:off x="6143760" y="1785960"/>
            <a:ext cx="2857320" cy="1500120"/>
          </a:xfrm>
          <a:prstGeom prst="wedgeRectCallout">
            <a:avLst>
              <a:gd name="adj1" fmla="val -150009"/>
              <a:gd name="adj2" fmla="val 5110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škrtnutím voleb v zaškrtávacích polích se aktivují pole v odpovídajících záložkách, případně se propojené textové pole změní z nepovinného na povin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bdélníkový popisek 7"/>
          <p:cNvSpPr/>
          <p:nvPr/>
        </p:nvSpPr>
        <p:spPr>
          <a:xfrm>
            <a:off x="6143760" y="3500280"/>
            <a:ext cx="2857320" cy="2357640"/>
          </a:xfrm>
          <a:prstGeom prst="wedgeRectCallout">
            <a:avLst>
              <a:gd name="adj1" fmla="val -82458"/>
              <a:gd name="adj2" fmla="val -15847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atum zahájení a ukončení projektu se vkládá pomocí číselníku kalendář, který zobrazíte kliknutím na obrázek kalendáře v pravém rohu p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dané termíny musí být v souladu s výzvou, ve které bude projekt předkládá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E8C5-D321-40FD-9B71-BE8CA2ED81B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bdélník se zakulaceným příčným rohem 6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ěnujte maximální pozornost vyplnění této záložky. Informace zde zadané slouží jako základní nástroj při hodnocení žád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82F0-E7E7-4F00-9B00-DCB9C0FFBA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bdélníkový popisek 7"/>
          <p:cNvSpPr/>
          <p:nvPr/>
        </p:nvSpPr>
        <p:spPr>
          <a:xfrm>
            <a:off x="5572080" y="1714680"/>
            <a:ext cx="3500640" cy="1143000"/>
          </a:xfrm>
          <a:prstGeom prst="wedgeRectCallout">
            <a:avLst>
              <a:gd name="adj1" fmla="val -63268"/>
              <a:gd name="adj2" fmla="val -1622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cíle, kterých chcete v rámci projektu dosáhnout. Vyjádřete změnu, kterou přinese daný projekt a popište, co bude za dané prostředky vytvoře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6150-2B66-4FFD-86F1-D01338C910B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bdélníkový popisek 8"/>
          <p:cNvSpPr/>
          <p:nvPr/>
        </p:nvSpPr>
        <p:spPr>
          <a:xfrm>
            <a:off x="5572080" y="1571760"/>
            <a:ext cx="3500640" cy="4714920"/>
          </a:xfrm>
          <a:prstGeom prst="wedgeRectCallout">
            <a:avLst>
              <a:gd name="adj1" fmla="val -66532"/>
              <a:gd name="adj2" fmla="val -1349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de 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aktuální situace v oblasti, na kterou je projekt zaměřen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chcete v této oblasti zlepšit nebo změnit a proč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je důležité realizovat projektové aktivity právě pro cílovou skupinu, se kterou chcete v projektu pracov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realizujete projekt s vybranými partnery/ bez partne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č by měl být Váš projekt financován z veřejných zdrojů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čem je projekt inov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ý posun nastane ve vámi řešené problematice po úspěšném ukonče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základě jakých zdrojů (dokumentů či analýz) dokládáte potřebnost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357200" y="1428840"/>
            <a:ext cx="4280040" cy="464328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1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20D-7371-4F49-B0E6-899AFC5FE9D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bdélníkový popisek 8"/>
          <p:cNvSpPr/>
          <p:nvPr/>
        </p:nvSpPr>
        <p:spPr>
          <a:xfrm>
            <a:off x="5572080" y="1571760"/>
            <a:ext cx="3500640" cy="2071440"/>
          </a:xfrm>
          <a:prstGeom prst="wedgeRectCallout">
            <a:avLst>
              <a:gd name="adj1" fmla="val -130750"/>
              <a:gd name="adj2" fmla="val 8317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měřte se na cílovou skupinu, na kterou jsou projektové aktivity cíle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jsou potřeby této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teré její potřeby bude projekt řeši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je velikost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olik osob plánujete do projektu zapoji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bdélníkový popisek 6"/>
          <p:cNvSpPr/>
          <p:nvPr/>
        </p:nvSpPr>
        <p:spPr>
          <a:xfrm>
            <a:off x="5572080" y="3786120"/>
            <a:ext cx="3500640" cy="2500560"/>
          </a:xfrm>
          <a:prstGeom prst="wedgeRectCallout">
            <a:avLst>
              <a:gd name="adj1" fmla="val -93379"/>
              <a:gd name="adj2" fmla="val 784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ak jednotlivé cílové skupiny zapojíte a jak je budete motivovat k účasti na projektových aktivit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jste příslušníky cílové skupiny motivovali, aby do projektu vstoup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vybrané příslušníky cílové skupiny konkrétně do projektu zapojí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příslušníky cílové skupiny motivovat, aby svou účast v projektu dokončil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1285920" y="1428840"/>
            <a:ext cx="4279680" cy="4643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B426-CD22-472A-B0E3-72817F00720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Šrafovaná šipka doprava 5"/>
          <p:cNvSpPr/>
          <p:nvPr/>
        </p:nvSpPr>
        <p:spPr>
          <a:xfrm rot="5400000">
            <a:off x="3643200" y="600048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bdélníkový popisek 8"/>
          <p:cNvSpPr/>
          <p:nvPr/>
        </p:nvSpPr>
        <p:spPr>
          <a:xfrm>
            <a:off x="5572080" y="3214800"/>
            <a:ext cx="3500640" cy="2857320"/>
          </a:xfrm>
          <a:prstGeom prst="wedgeRectCallout">
            <a:avLst>
              <a:gd name="adj1" fmla="val -62907"/>
              <a:gd name="adj2" fmla="val 4273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pište konkrétní přínos pro cílovou skupinu, pokud bude projekt úspěšně realizován a ukončen. Popište tento přínos v širším kontextu pro celou skupinu, případně na konkrétním příkladu skupiny lidí či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výhody bude mít cílová skupina z realizace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o účast v projektu přinese příslušníkům cílové skupi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Zástupný symbol pro obsah 4" descr="04_zadost22_3_crop.jpg"/>
          <p:cNvPicPr/>
          <p:nvPr/>
        </p:nvPicPr>
        <p:blipFill>
          <a:blip r:embed="rId1"/>
          <a:srcRect l="4279" t="19696" r="0" b="26597"/>
          <a:stretch/>
        </p:blipFill>
        <p:spPr>
          <a:xfrm>
            <a:off x="1239840" y="3333600"/>
            <a:ext cx="4127400" cy="2452680"/>
          </a:xfrm>
          <a:prstGeom prst="rect">
            <a:avLst/>
          </a:prstGeom>
          <a:ln w="0">
            <a:noFill/>
          </a:ln>
        </p:spPr>
      </p:pic>
      <p:pic>
        <p:nvPicPr>
          <p:cNvPr id="425" name="Zástupný symbol pro obsah 4" descr="04_zadost22_2_crop.jpg"/>
          <p:cNvPicPr/>
          <p:nvPr/>
        </p:nvPicPr>
        <p:blipFill>
          <a:blip r:embed="rId2"/>
          <a:srcRect l="4840" t="53031" r="0" b="0"/>
          <a:stretch/>
        </p:blipFill>
        <p:spPr>
          <a:xfrm>
            <a:off x="1285920" y="1928880"/>
            <a:ext cx="4140000" cy="221436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7A95-42CF-4022-9431-CB1F77282DE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ový popisek 9"/>
          <p:cNvSpPr/>
          <p:nvPr/>
        </p:nvSpPr>
        <p:spPr>
          <a:xfrm>
            <a:off x="5572080" y="1643040"/>
            <a:ext cx="3500640" cy="785880"/>
          </a:xfrm>
          <a:prstGeom prst="wedgeRectCallout">
            <a:avLst>
              <a:gd name="adj1" fmla="val -88666"/>
              <a:gd name="adj2" fmla="val 8383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rizika, která jsou s realizací aktivit projektu spojena. Jaká opatření k jejich eliminaci máte připrave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Šrafovaná šipka doprava 6"/>
          <p:cNvSpPr/>
          <p:nvPr/>
        </p:nvSpPr>
        <p:spPr>
          <a:xfrm rot="5400000">
            <a:off x="3643560" y="164304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ový popisek 8"/>
          <p:cNvSpPr/>
          <p:nvPr/>
        </p:nvSpPr>
        <p:spPr>
          <a:xfrm>
            <a:off x="5572080" y="2571840"/>
            <a:ext cx="3500640" cy="3714840"/>
          </a:xfrm>
          <a:prstGeom prst="wedgeRectCallout">
            <a:avLst>
              <a:gd name="adj1" fmla="val -70162"/>
              <a:gd name="adj2" fmla="val 875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budete naplňovat cíle a výstupy projektu v době udržitelnosti, což je 5 let ode dne ukončení projektu. Popište aktivity navazující na projekt, které jsou plánovány po ukončení financová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odpovědi na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ou aktivity projektu realizovány po ukončení financování projekt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kud ano, tak které a v jakém rozsahu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 zajistíte další financování těchto aktivit po ukončení financová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ude zachována, případně dále rozvíjena spolupráce s partne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Zástupný symbol pro obsah 4" descr="04_zadost22_4_crop.jpg"/>
          <p:cNvPicPr/>
          <p:nvPr/>
        </p:nvPicPr>
        <p:blipFill>
          <a:blip r:embed="rId1"/>
          <a:srcRect l="3120" t="27277" r="0" b="3034"/>
          <a:stretch/>
        </p:blipFill>
        <p:spPr>
          <a:xfrm>
            <a:off x="1285920" y="1538280"/>
            <a:ext cx="4292640" cy="3033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O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Popis projekt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4EEF-346D-4544-9811-0CE4B601690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Šrafovaná šipka doprava 5"/>
          <p:cNvSpPr/>
          <p:nvPr/>
        </p:nvSpPr>
        <p:spPr>
          <a:xfrm rot="5400000">
            <a:off x="3792240" y="1571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bdélníkový popisek 6"/>
          <p:cNvSpPr/>
          <p:nvPr/>
        </p:nvSpPr>
        <p:spPr>
          <a:xfrm>
            <a:off x="5572080" y="1571760"/>
            <a:ext cx="3500640" cy="1428480"/>
          </a:xfrm>
          <a:prstGeom prst="wedgeRectCallout">
            <a:avLst>
              <a:gd name="adj1" fmla="val -64722"/>
              <a:gd name="adj2" fmla="val 2584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, je-li projekt provázaný s jiným předkládaným projektem a jakým způsob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Obrázek 8" descr="popisProjektu.jpg"/>
          <p:cNvPicPr/>
          <p:nvPr/>
        </p:nvPicPr>
        <p:blipFill>
          <a:blip r:embed="rId2"/>
          <a:stretch/>
        </p:blipFill>
        <p:spPr>
          <a:xfrm>
            <a:off x="1285920" y="4595760"/>
            <a:ext cx="4357800" cy="1690920"/>
          </a:xfrm>
          <a:prstGeom prst="rect">
            <a:avLst/>
          </a:prstGeom>
          <a:ln w="0">
            <a:noFill/>
          </a:ln>
        </p:spPr>
      </p:pic>
      <p:sp>
        <p:nvSpPr>
          <p:cNvPr id="437" name="Obdélníkový popisek 9"/>
          <p:cNvSpPr/>
          <p:nvPr/>
        </p:nvSpPr>
        <p:spPr>
          <a:xfrm>
            <a:off x="5572080" y="5000760"/>
            <a:ext cx="3500640" cy="857160"/>
          </a:xfrm>
          <a:prstGeom prst="wedgeRectCallout">
            <a:avLst>
              <a:gd name="adj1" fmla="val -69800"/>
              <a:gd name="adj2" fmla="val 7782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erte podporované aktivity uvedené ve výzvě k předkládání žádostí, které odpovídají danému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bdélníkový popisek 7"/>
          <p:cNvSpPr/>
          <p:nvPr/>
        </p:nvSpPr>
        <p:spPr>
          <a:xfrm>
            <a:off x="5572080" y="3071880"/>
            <a:ext cx="3500640" cy="15714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má žadatel mechanismy a postupy pro říz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činnosti související s projektovým řízením včetně vazby na rozpoč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Zástupný symbol pro obsah 4" descr="04_zadost45_crop.jpg"/>
          <p:cNvPicPr/>
          <p:nvPr/>
        </p:nvPicPr>
        <p:blipFill>
          <a:blip r:embed="rId1"/>
          <a:srcRect l="3263" t="3723" r="0" b="0"/>
          <a:stretch/>
        </p:blipFill>
        <p:spPr>
          <a:xfrm>
            <a:off x="1357200" y="1714680"/>
            <a:ext cx="4857840" cy="341136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Monitorovací indikátor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5565-E88E-4B3A-B12D-FAD5079B3E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indikátory označené příznakem povinný. V případě, že takovýto indikátor není pro projekt relevantní, zadejte nulovou hodno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extu výzvy jsou povinné indikátory zvýrazněné tučným pís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28480" y="171432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adatel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artner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itorovací indiká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ktivit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ealizační tý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Finanční tok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sah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26" name="Zástupný symbol pro číslo snímku 5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3E25-97E6-4270-91BB-F55948401A7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86240" y="1643040"/>
            <a:ext cx="35719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Další rozčlenění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Horizontální té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ublic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ýběrová řízen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ílohy projekt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428840" y="1285920"/>
            <a:ext cx="487368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A55-4B07-489E-B992-23FB9183E3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bdélník se zakulaceným příčným rohem 6"/>
          <p:cNvSpPr/>
          <p:nvPr/>
        </p:nvSpPr>
        <p:spPr>
          <a:xfrm>
            <a:off x="6215040" y="264312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všechny klíčové aktivity, které bud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jednotlivých fázích projektu realizovat žadatel nebo partneři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Zástupný symbol pro obsah 4" descr="04_zadost27_1_crop.jpg"/>
          <p:cNvPicPr/>
          <p:nvPr/>
        </p:nvPicPr>
        <p:blipFill>
          <a:blip r:embed="rId1"/>
          <a:stretch/>
        </p:blipFill>
        <p:spPr>
          <a:xfrm>
            <a:off x="1270080" y="1571760"/>
            <a:ext cx="4873680" cy="49701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B5B0-C59A-472F-B366-1D74981F774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Šrafovaná šipka doprava 5"/>
          <p:cNvSpPr/>
          <p:nvPr/>
        </p:nvSpPr>
        <p:spPr>
          <a:xfrm rot="5400000">
            <a:off x="3071520" y="628632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bdélníkový popisek 7"/>
          <p:cNvSpPr/>
          <p:nvPr/>
        </p:nvSpPr>
        <p:spPr>
          <a:xfrm>
            <a:off x="5857920" y="2714760"/>
            <a:ext cx="3214800" cy="2428920"/>
          </a:xfrm>
          <a:prstGeom prst="wedgeRectCallout">
            <a:avLst>
              <a:gd name="adj1" fmla="val -100513"/>
              <a:gd name="adj2" fmla="val 208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áklady na klíčové aktivity rozložte na ESF způsobilé výdaje a výdaje spadající do křížového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učet všech způsobilých výdajů za všechny klíčové aktivity musí odpovídat minimálně 70 % celkových způsobilých výdajů za celý projek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319040" y="2165400"/>
            <a:ext cx="5135760" cy="3906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Klíčové aktivit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25E-9461-45E7-A97B-30A1213B06E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bdélníkový popisek 7"/>
          <p:cNvSpPr/>
          <p:nvPr/>
        </p:nvSpPr>
        <p:spPr>
          <a:xfrm>
            <a:off x="5857920" y="3286080"/>
            <a:ext cx="3214800" cy="1071720"/>
          </a:xfrm>
          <a:prstGeom prst="wedgeRectCallout">
            <a:avLst>
              <a:gd name="adj1" fmla="val -43939"/>
              <a:gd name="adj2" fmla="val 13992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Ke každé klíčové aktivitě přiřaďte všechny subjekty, které se budou podílet na její realiza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Zástupný symbol pro obsah 4" descr="04_zadost31_crop.jpg"/>
          <p:cNvPicPr/>
          <p:nvPr/>
        </p:nvPicPr>
        <p:blipFill>
          <a:blip r:embed="rId1"/>
          <a:stretch/>
        </p:blipFill>
        <p:spPr>
          <a:xfrm>
            <a:off x="1357200" y="1928880"/>
            <a:ext cx="5896080" cy="27399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Aktivity</a:t>
            </a: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Harmonogram aktivit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5884-D15C-4CC4-826B-EADDD4E2AD0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bdélník se zakulaceným příčným rohem 5"/>
          <p:cNvSpPr/>
          <p:nvPr/>
        </p:nvSpPr>
        <p:spPr>
          <a:xfrm>
            <a:off x="6215040" y="2928960"/>
            <a:ext cx="2714760" cy="3214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 harmonogramu zahrňte všechny klíčové aktivity zadané na záložce „Klíčové aktivity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dené aktivity musí být realizovány v časovém rozmezí uvedeném na záložce „Projekt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722B-A277-4F43-978A-BBD929C0669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bdélníkový popisek 5"/>
          <p:cNvSpPr/>
          <p:nvPr/>
        </p:nvSpPr>
        <p:spPr>
          <a:xfrm>
            <a:off x="6143760" y="1500120"/>
            <a:ext cx="2928960" cy="1285920"/>
          </a:xfrm>
          <a:prstGeom prst="wedgeRectCallout">
            <a:avLst>
              <a:gd name="adj1" fmla="val -115509"/>
              <a:gd name="adj2" fmla="val 12412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abídky lze rozlišit pracovníky dle typu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anažerské a administrativní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dborné poz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bdélníkový popisek 7"/>
          <p:cNvSpPr/>
          <p:nvPr/>
        </p:nvSpPr>
        <p:spPr>
          <a:xfrm>
            <a:off x="5857920" y="3286080"/>
            <a:ext cx="3214800" cy="857160"/>
          </a:xfrm>
          <a:prstGeom prst="wedgeRectCallout">
            <a:avLst>
              <a:gd name="adj1" fmla="val -95300"/>
              <a:gd name="adj2" fmla="val 73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volte žadatele nebo partnera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kterého bude pracovní pozice zajiště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228E-D82E-4F53-B3D4-A8A83C73A2E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bdélníkový popisek 5"/>
          <p:cNvSpPr/>
          <p:nvPr/>
        </p:nvSpPr>
        <p:spPr>
          <a:xfrm>
            <a:off x="6072120" y="857160"/>
            <a:ext cx="2928960" cy="1285920"/>
          </a:xfrm>
          <a:prstGeom prst="wedgeRectCallout">
            <a:avLst>
              <a:gd name="adj1" fmla="val -149481"/>
              <a:gd name="adj2" fmla="val 291953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uvádějte úvazek v procentech (50 %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0 % atd.), v případě DPČ nebo DPP uvádějte počet hodin za měsí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délníkový popisek 7"/>
          <p:cNvSpPr/>
          <p:nvPr/>
        </p:nvSpPr>
        <p:spPr>
          <a:xfrm>
            <a:off x="5786280" y="2786040"/>
            <a:ext cx="3214800" cy="857160"/>
          </a:xfrm>
          <a:prstGeom prst="wedgeRectCallout">
            <a:avLst>
              <a:gd name="adj1" fmla="val -117819"/>
              <a:gd name="adj2" fmla="val 22499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 pracovní smlouvy doplňte sazbu za měsíc, u DPČ nebo DPP sazbu za hodin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délníkový popisek 8"/>
          <p:cNvSpPr/>
          <p:nvPr/>
        </p:nvSpPr>
        <p:spPr>
          <a:xfrm>
            <a:off x="5286240" y="3786120"/>
            <a:ext cx="3714840" cy="2214720"/>
          </a:xfrm>
          <a:prstGeom prst="wedgeRectCallout">
            <a:avLst>
              <a:gd name="adj1" fmla="val -80402"/>
              <a:gd name="adj2" fmla="val 50416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odpovězte následující otázk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á bude převažující pracovní náplň této pozice v projektu? Popište nejčastější typy činn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jakých konkrétních aktivitách se bude v rámci projektu podílet a jakým způsobe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náklady (jiné než osobní a režie) se budou k dané pozici váz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1131840"/>
            <a:ext cx="4786560" cy="5154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B61-720C-4777-AB0F-FAD8DD216A2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délník se zakulaceným příčným rohem 4"/>
          <p:cNvSpPr/>
          <p:nvPr/>
        </p:nvSpPr>
        <p:spPr>
          <a:xfrm>
            <a:off x="6215040" y="1357200"/>
            <a:ext cx="2714760" cy="4572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opisu pracovní náplně uveďte počet osob, které budou danou pozici zajišť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4483-97C7-432F-B38F-4EE3862EAEE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71360" y="2714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65E3-8CE0-4C65-AA67-A598FC150D9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Zástupný symbol pro obsah 4" descr="04_zadost34_1_crop.jpg"/>
          <p:cNvPicPr/>
          <p:nvPr/>
        </p:nvPicPr>
        <p:blipFill>
          <a:blip r:embed="rId1"/>
          <a:stretch/>
        </p:blipFill>
        <p:spPr>
          <a:xfrm>
            <a:off x="1500120" y="1928880"/>
            <a:ext cx="7523280" cy="289548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8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56C-AFB9-4206-95E2-D5109CCBB75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86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483320" cy="1998360"/>
          </a:xfrm>
          <a:prstGeom prst="rect">
            <a:avLst/>
          </a:prstGeom>
          <a:ln w="0">
            <a:noFill/>
          </a:ln>
        </p:spPr>
      </p:pic>
      <p:sp>
        <p:nvSpPr>
          <p:cNvPr id="487" name="TextovéPole 6"/>
          <p:cNvSpPr/>
          <p:nvPr/>
        </p:nvSpPr>
        <p:spPr>
          <a:xfrm>
            <a:off x="1285920" y="4071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é lim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bytování v ČR – max. 1 200 Kč za osobu a noc a zároveň dle interních předpisů dané organizace, pokud jsou nižší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AF7E-829C-45FB-8F68-A9A7985E0CE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0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857240"/>
            <a:ext cx="7396200" cy="2686320"/>
          </a:xfrm>
          <a:prstGeom prst="rect">
            <a:avLst/>
          </a:prstGeom>
          <a:ln w="0">
            <a:noFill/>
          </a:ln>
        </p:spPr>
      </p:pic>
      <p:sp>
        <p:nvSpPr>
          <p:cNvPr id="491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7CD4-8BBE-45A5-846B-F6556080043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4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405920" cy="687240"/>
          </a:xfrm>
          <a:prstGeom prst="rect">
            <a:avLst/>
          </a:prstGeom>
          <a:ln w="0">
            <a:noFill/>
          </a:ln>
        </p:spPr>
      </p:pic>
      <p:sp>
        <p:nvSpPr>
          <p:cNvPr id="495" name="TextovéPole 4"/>
          <p:cNvSpPr/>
          <p:nvPr/>
        </p:nvSpPr>
        <p:spPr>
          <a:xfrm>
            <a:off x="1285920" y="3000240"/>
            <a:ext cx="692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této kapitoly - Místní kancelář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6BB-62EE-4513-A63C-F99161C53F6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49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857240"/>
            <a:ext cx="7081920" cy="1035360"/>
          </a:xfrm>
          <a:prstGeom prst="rect">
            <a:avLst/>
          </a:prstGeom>
          <a:ln w="0">
            <a:noFill/>
          </a:ln>
        </p:spPr>
      </p:pic>
      <p:sp>
        <p:nvSpPr>
          <p:cNvPr id="499" name="TextovéPole 4"/>
          <p:cNvSpPr/>
          <p:nvPr/>
        </p:nvSpPr>
        <p:spPr>
          <a:xfrm>
            <a:off x="1285920" y="3286080"/>
            <a:ext cx="700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ubytování v ČR – max. 1 200 Kč za osobu a noc (případně nižší dle interních předpisů dané organiz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21B0-9509-4C74-B8E0-AD513CD892F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590840" y="1816200"/>
            <a:ext cx="6462720" cy="484200"/>
          </a:xfrm>
          <a:prstGeom prst="rect">
            <a:avLst/>
          </a:prstGeom>
          <a:ln w="0">
            <a:noFill/>
          </a:ln>
        </p:spPr>
      </p:pic>
      <p:sp>
        <p:nvSpPr>
          <p:cNvPr id="503" name="TextovéPole 4"/>
          <p:cNvSpPr/>
          <p:nvPr/>
        </p:nvSpPr>
        <p:spPr>
          <a:xfrm>
            <a:off x="1571760" y="2428920"/>
            <a:ext cx="650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smí přesáhnout částku za všechny dokončené stavební úpravy v jednom zdaňovacím období v úhrnu 40 tis.  Kč (pořizovací cena) na každou jednotlivou účetní položku majetku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DFE8-2D24-4D18-AD07-D5E221DC815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0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07960" y="1857240"/>
            <a:ext cx="6756480" cy="663840"/>
          </a:xfrm>
          <a:prstGeom prst="rect">
            <a:avLst/>
          </a:prstGeom>
          <a:ln w="0">
            <a:noFill/>
          </a:ln>
        </p:spPr>
      </p:pic>
      <p:sp>
        <p:nvSpPr>
          <p:cNvPr id="507" name="TextovéPole 6"/>
          <p:cNvSpPr/>
          <p:nvPr/>
        </p:nvSpPr>
        <p:spPr>
          <a:xfrm>
            <a:off x="1428840" y="2714760"/>
            <a:ext cx="6643440" cy="37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a zároveň dle interních předpisů dané organiza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AF4-4D4A-4183-B5F5-AB7C9061422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0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6786360" cy="658800"/>
          </a:xfrm>
          <a:prstGeom prst="rect">
            <a:avLst/>
          </a:prstGeom>
          <a:ln w="0">
            <a:noFill/>
          </a:ln>
        </p:spPr>
      </p:pic>
      <p:sp>
        <p:nvSpPr>
          <p:cNvPr id="511" name="TextovéPole 4"/>
          <p:cNvSpPr/>
          <p:nvPr/>
        </p:nvSpPr>
        <p:spPr>
          <a:xfrm>
            <a:off x="1500120" y="2857680"/>
            <a:ext cx="657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1B3-1E07-45D0-AF64-88BAB94EA6B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514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515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516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517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94000"/>
            <a:ext cx="7232760" cy="535320"/>
          </a:xfrm>
          <a:prstGeom prst="rect">
            <a:avLst/>
          </a:prstGeom>
          <a:ln w="0">
            <a:noFill/>
          </a:ln>
        </p:spPr>
      </p:pic>
      <p:pic>
        <p:nvPicPr>
          <p:cNvPr id="518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52880"/>
            <a:ext cx="7189920" cy="184320"/>
          </a:xfrm>
          <a:prstGeom prst="rect">
            <a:avLst/>
          </a:prstGeom>
          <a:ln w="0">
            <a:noFill/>
          </a:ln>
        </p:spPr>
      </p:pic>
      <p:pic>
        <p:nvPicPr>
          <p:cNvPr id="519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337000"/>
            <a:ext cx="6929280" cy="1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71360" y="271440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BE1D-9A3C-49FF-B454-DE4EF311932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0EEA-BFAD-41EA-8E4C-A572BAA4657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bdélník se zakulaceným příčným rohem 8"/>
          <p:cNvSpPr/>
          <p:nvPr/>
        </p:nvSpPr>
        <p:spPr>
          <a:xfrm>
            <a:off x="5786280" y="3071880"/>
            <a:ext cx="3143520" cy="2571840"/>
          </a:xfrm>
          <a:prstGeom prst="pi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ložka žadatel projektu slouží k identifikaci subjektu, který o projekt žád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Obrázek 5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32576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6FC7-6AAE-48EC-849C-4162E681D79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19E0-7C75-4E0D-A646-AEA8E28942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9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7DD6-1D7B-4379-BDD9-47FBA641D7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3" name="Obdélník se zakulaceným příčným rohem 6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7619-45F7-4BB7-85CA-D6B50EBF86C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7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357200" y="1514520"/>
            <a:ext cx="3929040" cy="47721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9793-0559-4511-8B77-8CDE988FD05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dané oblasti musí být v souladu s prostorem  definovaným Operačním progra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rámci jednoho kraje je nutné uvést vždy pouze jeden reg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ádějte nejvyšší typ území (region, kraj, okres, obec), který odpovídá zpracovávanému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Šrafovaná šipka doprava 15"/>
          <p:cNvSpPr/>
          <p:nvPr/>
        </p:nvSpPr>
        <p:spPr>
          <a:xfrm rot="5400000">
            <a:off x="3071520" y="585756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Obrázek 9" descr="3.JPG"/>
          <p:cNvPicPr/>
          <p:nvPr/>
        </p:nvPicPr>
        <p:blipFill>
          <a:blip r:embed="rId1"/>
          <a:stretch/>
        </p:blipFill>
        <p:spPr>
          <a:xfrm>
            <a:off x="1357200" y="1500120"/>
            <a:ext cx="4923000" cy="47484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Území dopadu a realizac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4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7D7-7169-49BB-A68A-11BE4D9322B9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rafovaná šipka doprava 10"/>
          <p:cNvSpPr/>
          <p:nvPr/>
        </p:nvSpPr>
        <p:spPr>
          <a:xfrm rot="5400000">
            <a:off x="3785760" y="1785960"/>
            <a:ext cx="428400" cy="28548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délník se zakulaceným příčným rohem 11"/>
          <p:cNvSpPr/>
          <p:nvPr/>
        </p:nvSpPr>
        <p:spPr>
          <a:xfrm>
            <a:off x="6215040" y="1857240"/>
            <a:ext cx="2714760" cy="4071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Zástupný symbol pro obsah 4" descr="04_zadost44_1_crop.jpg"/>
          <p:cNvPicPr/>
          <p:nvPr/>
        </p:nvPicPr>
        <p:blipFill>
          <a:blip r:embed="rId1"/>
          <a:srcRect l="3289" t="0" r="0" b="0"/>
          <a:stretch/>
        </p:blipFill>
        <p:spPr>
          <a:xfrm>
            <a:off x="1285920" y="1442880"/>
            <a:ext cx="4143240" cy="3697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DD8F-D7F4-45BB-A707-1DE4409FA7F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Šrafovaná šipka doprava 6"/>
          <p:cNvSpPr/>
          <p:nvPr/>
        </p:nvSpPr>
        <p:spPr>
          <a:xfrm rot="5400000">
            <a:off x="3071520" y="500040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Zástupný symbol pro obsah 4" descr="04_zadost44_2_crop.jpg"/>
          <p:cNvPicPr/>
          <p:nvPr/>
        </p:nvPicPr>
        <p:blipFill>
          <a:blip r:embed="rId1"/>
          <a:srcRect l="2852" t="3034" r="0" b="0"/>
          <a:stretch/>
        </p:blipFill>
        <p:spPr>
          <a:xfrm>
            <a:off x="1285920" y="1785960"/>
            <a:ext cx="5046480" cy="40719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alší rozčlenění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Kategorizace pomoci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12A0-9B18-4E62-8EF7-F3D43124D2A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Šrafovaná šipka doprava 6"/>
          <p:cNvSpPr/>
          <p:nvPr/>
        </p:nvSpPr>
        <p:spPr>
          <a:xfrm rot="5400000">
            <a:off x="371484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5DEC-76D8-4F3F-AEC9-4D81EEF3609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37" name="Obdélníkový popisek 6"/>
          <p:cNvSpPr/>
          <p:nvPr/>
        </p:nvSpPr>
        <p:spPr>
          <a:xfrm>
            <a:off x="6143760" y="2571840"/>
            <a:ext cx="2857320" cy="785880"/>
          </a:xfrm>
          <a:prstGeom prst="wedgeRectCallout">
            <a:avLst>
              <a:gd name="adj1" fmla="val -181569"/>
              <a:gd name="adj2" fmla="val 12371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ástka, která připadn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celkového rozpočtu na žadate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9787"/>
              <a:gd name="adj2" fmla="val -8921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aké projekty v oblasti RLZ již žadatel realizoval či realizuje. Popis by měl obsahovat cíle projektu, aktivity, program,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 něhož byl podpo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428840" y="1571760"/>
            <a:ext cx="5500440" cy="41767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029D-8EDB-4FDA-B982-8E2107507D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rizontální témata patří mezi vylučovací kritéri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má projekt negativní dopad na některé z horizontálních témat, nemůže být doporučen k podpoř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Zástupný symbol pro obsah 4" descr="04_zadost41_crop.jpg"/>
          <p:cNvPicPr/>
          <p:nvPr/>
        </p:nvPicPr>
        <p:blipFill>
          <a:blip r:embed="rId1"/>
          <a:srcRect l="3746" t="3031" r="0" b="0"/>
          <a:stretch/>
        </p:blipFill>
        <p:spPr>
          <a:xfrm>
            <a:off x="1357200" y="1500120"/>
            <a:ext cx="5500800" cy="41767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Horizontální témata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6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40A-BDFC-4822-B818-EF9AE0FDA80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hrňte, v jakých klíčových aktivitách a jakým způsobem bude projekt ovlivňovat rovné příležitosti a udržitelný rozvo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ublicita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Zástupný symbol pro obsah 4" descr="04_zadost47_crop.jpg"/>
          <p:cNvPicPr/>
          <p:nvPr/>
        </p:nvPicPr>
        <p:blipFill>
          <a:blip r:embed="rId1"/>
          <a:srcRect l="2261" t="2090" r="0" b="0"/>
          <a:stretch/>
        </p:blipFill>
        <p:spPr>
          <a:xfrm>
            <a:off x="1857240" y="1714680"/>
            <a:ext cx="6286680" cy="43862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yplnění projektové žádosti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ublicit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B57-3EE8-4094-B54D-14AF8B03501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357200" y="992160"/>
            <a:ext cx="4786560" cy="529452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ýběrová říze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2B5F-7EB0-45A8-8857-45F93E46AFE3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informac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 chystaných nebo již probíhajících výběrových řízen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rmuláře na této záložce budou aktivní pouze v případě, že jste na záložce „Projekt“ zvolili příslušnou vol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Zástupný symbol pro obsah 4" descr="04_zadost51_1_crop.jpg"/>
          <p:cNvPicPr/>
          <p:nvPr/>
        </p:nvPicPr>
        <p:blipFill>
          <a:blip r:embed="rId1"/>
          <a:srcRect l="0" t="0" r="0" b="39569"/>
          <a:stretch/>
        </p:blipFill>
        <p:spPr>
          <a:xfrm>
            <a:off x="1349280" y="1643040"/>
            <a:ext cx="4905360" cy="32148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23DB-21B0-4474-AA4D-50168DB467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Šrafovaná šipka doprava 5"/>
          <p:cNvSpPr/>
          <p:nvPr/>
        </p:nvSpPr>
        <p:spPr>
          <a:xfrm rot="5400000">
            <a:off x="3071880" y="457200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lňte všechny požadované přílohy. Pokud je doložení přílohy vzhlede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 povaze projektu nepodstatn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nevhodné, zaškrtněte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á příloha musí mít zaškrtnuto buď doložena, nebo nerelevant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Zástupný symbol pro obsah 4" descr="04_zadost51_2_crop.jpg"/>
          <p:cNvPicPr/>
          <p:nvPr/>
        </p:nvPicPr>
        <p:blipFill>
          <a:blip r:embed="rId1"/>
          <a:srcRect l="0" t="55725" r="0" b="0"/>
          <a:stretch/>
        </p:blipFill>
        <p:spPr>
          <a:xfrm>
            <a:off x="1357200" y="2071800"/>
            <a:ext cx="5072040" cy="24350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řílohy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8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6669-30E1-42C2-8945-2CBF0BC74A4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Šrafovaná šipka doprava 5"/>
          <p:cNvSpPr/>
          <p:nvPr/>
        </p:nvSpPr>
        <p:spPr>
          <a:xfrm rot="5400000">
            <a:off x="3643560" y="1785960"/>
            <a:ext cx="42840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délník se zakulaceným příčným rohem 6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lektronickou přílohu vložte kliknutím na tlačítko Procházet, zde vyberte požadovaný  soub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šechny přílohy, které jsou v elektronické podobě dostupné,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utné k žádosti připoj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ílohy s povinným podpisem naskenujt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řiložte jako obrázek jpg, nebo soubor p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71360" y="1499760"/>
            <a:ext cx="807228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eme za vaši pozornost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lp_opvk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@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smt.cz</a:t>
            </a:r>
            <a:br>
              <a:rPr sz="4000"/>
            </a:b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cera@msmt.cz</a:t>
            </a:r>
            <a:br>
              <a:rPr sz="3200"/>
            </a:b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rázek 8" descr="1.JPG"/>
          <p:cNvPicPr/>
          <p:nvPr/>
        </p:nvPicPr>
        <p:blipFill>
          <a:blip r:embed="rId1"/>
          <a:stretch/>
        </p:blipFill>
        <p:spPr>
          <a:xfrm>
            <a:off x="1285920" y="1285920"/>
            <a:ext cx="4714920" cy="42148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7F70-24EF-4C3E-AA2A-A38FDAF1E9A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Zástupný symbol pro obsah 4" descr="04_zadost7_crop.jpg"/>
          <p:cNvPicPr/>
          <p:nvPr/>
        </p:nvPicPr>
        <p:blipFill>
          <a:blip r:embed="rId2"/>
          <a:srcRect l="3641" t="84857" r="3641" b="3030"/>
          <a:stretch/>
        </p:blipFill>
        <p:spPr>
          <a:xfrm>
            <a:off x="1285920" y="5500800"/>
            <a:ext cx="4572000" cy="581040"/>
          </a:xfrm>
          <a:prstGeom prst="rect">
            <a:avLst/>
          </a:prstGeom>
          <a:ln w="0">
            <a:noFill/>
          </a:ln>
        </p:spPr>
      </p:pic>
      <p:sp>
        <p:nvSpPr>
          <p:cNvPr id="343" name="Obdélníkový popisek 7"/>
          <p:cNvSpPr/>
          <p:nvPr/>
        </p:nvSpPr>
        <p:spPr>
          <a:xfrm>
            <a:off x="6143760" y="4143240"/>
            <a:ext cx="2857320" cy="1857600"/>
          </a:xfrm>
          <a:prstGeom prst="wedgeRectCallout">
            <a:avLst>
              <a:gd name="adj1" fmla="val -76675"/>
              <a:gd name="adj2" fmla="val 464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Adresa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45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3993-AFC6-4215-9EDD-119FB3E1F9D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bdélník se zakulaceným příčným rohem 5"/>
          <p:cNvSpPr/>
          <p:nvPr/>
        </p:nvSpPr>
        <p:spPr>
          <a:xfrm>
            <a:off x="6572160" y="2571840"/>
            <a:ext cx="2571840" cy="3357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ficiální adres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automaticky načtena při „Validaci ARES“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akto načtené údaje needit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dresa pro doruč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povinný údaj, který zadává uživat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Zástupný symbol pro obsah 9" descr="1.JPG"/>
          <p:cNvPicPr/>
          <p:nvPr/>
        </p:nvPicPr>
        <p:blipFill>
          <a:blip r:embed="rId1"/>
          <a:stretch/>
        </p:blipFill>
        <p:spPr>
          <a:xfrm>
            <a:off x="1428840" y="1643040"/>
            <a:ext cx="5143320" cy="4397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Zástupný symbol pro obsah 4" descr="04_zadost17_crop.jpg"/>
          <p:cNvPicPr/>
          <p:nvPr/>
        </p:nvPicPr>
        <p:blipFill>
          <a:blip r:embed="rId1"/>
          <a:srcRect l="2620" t="1516" r="0" b="0"/>
          <a:stretch/>
        </p:blipFill>
        <p:spPr>
          <a:xfrm>
            <a:off x="1285920" y="1500120"/>
            <a:ext cx="50655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Žadatel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y žadatele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0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2191-CAFB-4042-BA8A-003E55AEC09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se zakulaceným příčným rohem 6"/>
          <p:cNvSpPr/>
          <p:nvPr/>
        </p:nvSpPr>
        <p:spPr>
          <a:xfrm>
            <a:off x="6215040" y="1857240"/>
            <a:ext cx="2714760" cy="4357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záložce „Osoby žadatele“ je nutné uvést všechn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tatutární zástupce, kteří mají společné podpisové právo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ní osob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terá bude během hodnocení a realizace komunikovat s pracovníky ŘO ohledně projektu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6:19:35Z</dcterms:modified>
  <cp:revision>794</cp:revision>
  <dc:subject/>
  <dc:title>Snímek 1</dc:title>
</cp:coreProperties>
</file>